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0.png" ContentType="image/png"/>
  <Override PartName="/ppt/media/image2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09A-D7F9-4813-8274-D08541A8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6AB-F5B2-49E0-A9AC-A477C311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433-748D-475B-965D-81BCB128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57C-BA2A-426C-B7AC-E58E309F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B7F-7047-4055-A2A3-4DE3B269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F4B-9E12-43F2-BA2A-1FBF822D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F39-96B5-42B4-BE6B-AF254E8C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4E8F-7212-47F3-A2B7-B6DDBA9F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367-5F35-4AD6-962D-088E6A98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DB3-DCB3-4403-A3D1-CA3C3357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844-9CF1-4070-B557-9C88EAD6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B7F-120E-4CB0-8480-F4B92E68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FF81-A340-4CB0-B7AD-A6DC6CAA6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72428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Backpac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33520" y="38862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ag worn on the back to carry thing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04920" y="49528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yaan carried her backpack to schoo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C:\Documents and Settings\kcs user\Local Settings\Temporary Internet Files\Content.IE5\SZ6733UR\MCj04241700000[1].wmf"/>
          <p:cNvPicPr/>
          <p:nvPr/>
        </p:nvPicPr>
        <p:blipFill>
          <a:blip r:embed="rId1"/>
          <a:stretch/>
        </p:blipFill>
        <p:spPr>
          <a:xfrm>
            <a:off x="228600" y="228600"/>
            <a:ext cx="2457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472428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limbe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457200" y="38098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sed the hands or feet to move up or down on a steep hill or mounta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380880" y="525780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rsa climbed the mountain with her mo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C:\Documents and Settings\kcs user\Local Settings\Temporary Internet Files\Content.IE5\12T97BD1\MCj02314310000[1].wmf"/>
          <p:cNvPicPr/>
          <p:nvPr/>
        </p:nvPicPr>
        <p:blipFill>
          <a:blip r:embed="rId1"/>
          <a:stretch/>
        </p:blipFill>
        <p:spPr>
          <a:xfrm>
            <a:off x="304920" y="380880"/>
            <a:ext cx="304776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472428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faw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57200" y="38098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young de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380880" y="525780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d you see the fawn in the movie Bamb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Documents and Settings\kcs user\Local Settings\Temporary Internet Files\Content.IE5\RWAYEZP7\MCj01116480000[1].wmf"/>
          <p:cNvPicPr/>
          <p:nvPr/>
        </p:nvPicPr>
        <p:blipFill>
          <a:blip r:embed="rId1"/>
          <a:stretch/>
        </p:blipFill>
        <p:spPr>
          <a:xfrm>
            <a:off x="762120" y="533520"/>
            <a:ext cx="27273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4815000" y="38088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ainbo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457200" y="35812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 arc of colored light seen in the sk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80880" y="525780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fter the rain their was a pretty rainbow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kcs user\Local Settings\Temporary Internet Files\Content.IE5\BH6GWFC4\MCj03351760000[1].wmf"/>
          <p:cNvPicPr/>
          <p:nvPr/>
        </p:nvPicPr>
        <p:blipFill>
          <a:blip r:embed="rId1"/>
          <a:stretch/>
        </p:blipFill>
        <p:spPr>
          <a:xfrm>
            <a:off x="304920" y="0"/>
            <a:ext cx="32004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4815000" y="38088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end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457200" y="35812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tle and lov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380880" y="525780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esenia was very tender with the kitte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Documents and Settings\kcs user\Local Settings\Temporary Internet Files\Content.IE5\SZ6733UR\MCj02810950000[1].wmf"/>
          <p:cNvPicPr/>
          <p:nvPr/>
        </p:nvPicPr>
        <p:blipFill>
          <a:blip r:embed="rId1"/>
          <a:stretch/>
        </p:blipFill>
        <p:spPr>
          <a:xfrm>
            <a:off x="762120" y="380880"/>
            <a:ext cx="25146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4815000" y="38088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groane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57200" y="28195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king a deep moaning soun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380880" y="3886200"/>
            <a:ext cx="8382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arrett groaned when his mom told him to read Junie B Jones. His mom groaned when she had to do laundr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Documents and Settings\kcs user\Local Settings\Temporary Internet Files\Content.IE5\RBXFOIPH\MCj03572550000[1].wmf"/>
          <p:cNvPicPr/>
          <p:nvPr/>
        </p:nvPicPr>
        <p:blipFill>
          <a:blip r:embed="rId1"/>
          <a:stretch/>
        </p:blipFill>
        <p:spPr>
          <a:xfrm>
            <a:off x="457200" y="457200"/>
            <a:ext cx="1911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4815000" y="38088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app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457200" y="3733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lly or foolis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380880" y="49528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rs. Laver cried over the sappy movi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Documents and Settings\kcs user\Local Settings\Temporary Internet Files\Content.IE5\H6GMZ4FW\MCj02959450000[1].wmf"/>
          <p:cNvPicPr/>
          <p:nvPr/>
        </p:nvPicPr>
        <p:blipFill>
          <a:blip r:embed="rId1"/>
          <a:stretch/>
        </p:blipFill>
        <p:spPr>
          <a:xfrm>
            <a:off x="304920" y="304920"/>
            <a:ext cx="3244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4815000" y="38088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nuggle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457200" y="3733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re cozy and clos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380880" y="495288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bby snuggled with her dog to keep war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Documents and Settings\kcs user\Local Settings\Temporary Internet Files\Content.IE5\8L0NF2SB\MCj03791310000[1].wmf"/>
          <p:cNvPicPr/>
          <p:nvPr/>
        </p:nvPicPr>
        <p:blipFill>
          <a:blip r:embed="rId1"/>
          <a:stretch/>
        </p:blipFill>
        <p:spPr>
          <a:xfrm>
            <a:off x="457200" y="457200"/>
            <a:ext cx="2403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4815000" y="38088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messag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57200" y="37339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group of words sent from one person to anoth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380880" y="51814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 left a message on the phone to call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C:\Documents and Settings\kcs user\Local Settings\Temporary Internet Files\Content.IE5\RBXFOIPH\MCj04241900000[1].wmf"/>
          <p:cNvPicPr/>
          <p:nvPr/>
        </p:nvPicPr>
        <p:blipFill>
          <a:blip r:embed="rId1"/>
          <a:stretch/>
        </p:blipFill>
        <p:spPr>
          <a:xfrm>
            <a:off x="838080" y="457200"/>
            <a:ext cx="243864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4815000" y="38088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epea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457200" y="3733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es or say agai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380880" y="518148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e day Jackson repeated everything Dory sai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Documents and Settings\kcs user\Local Settings\Temporary Internet Files\Content.IE5\N8X8NVIM\MCj01505470000[1].wmf"/>
          <p:cNvPicPr/>
          <p:nvPr/>
        </p:nvPicPr>
        <p:blipFill>
          <a:blip r:embed="rId1"/>
          <a:stretch/>
        </p:blipFill>
        <p:spPr>
          <a:xfrm>
            <a:off x="533520" y="38088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4815000" y="38088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ordinar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57200" y="3733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mething that is norma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80880" y="518148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t was an ordinary day, because nothing changed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C:\Documents and Settings\kcs user\Local Settings\Temporary Internet Files\Content.IE5\2QUQ72KL\MCj04347910000[1].png"/>
          <p:cNvPicPr/>
          <p:nvPr/>
        </p:nvPicPr>
        <p:blipFill>
          <a:blip r:embed="rId1"/>
          <a:stretch/>
        </p:blipFill>
        <p:spPr>
          <a:xfrm>
            <a:off x="457200" y="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472428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ampfir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533520" y="38862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tdoor fire for heat or cook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533520" y="49528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 built a campfire to roast marshmallow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C:\Documents and Settings\kcs user\Local Settings\Temporary Internet Files\Content.IE5\BH6GWFC4\MCj02328160000[1].wmf"/>
          <p:cNvPicPr/>
          <p:nvPr/>
        </p:nvPicPr>
        <p:blipFill>
          <a:blip r:embed="rId1"/>
          <a:stretch/>
        </p:blipFill>
        <p:spPr>
          <a:xfrm>
            <a:off x="457200" y="304920"/>
            <a:ext cx="3502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472428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hik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57200" y="38862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long walk for pleasure or exercis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3520" y="49528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shan went on a hike up the mountain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kcs user\Local Settings\Temporary Internet Files\Content.IE5\1QBZPOJ9\MCj02504240000[1].wmf"/>
          <p:cNvPicPr/>
          <p:nvPr/>
        </p:nvPicPr>
        <p:blipFill>
          <a:blip r:embed="rId1"/>
          <a:stretch/>
        </p:blipFill>
        <p:spPr>
          <a:xfrm>
            <a:off x="457200" y="380880"/>
            <a:ext cx="236232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472428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amp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33520" y="38862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ving outside, often in a t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533520" y="4952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stiny went camping with her famil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kcs user\Local Settings\Temporary Internet Files\Content.IE5\N8X8NVIM\MCj04080500000[1].wmf"/>
          <p:cNvPicPr/>
          <p:nvPr/>
        </p:nvPicPr>
        <p:blipFill>
          <a:blip r:embed="rId1"/>
          <a:stretch/>
        </p:blipFill>
        <p:spPr>
          <a:xfrm>
            <a:off x="457200" y="380880"/>
            <a:ext cx="33256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472428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lanter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457200" y="350532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light, often with clear sides, that can be carried aroun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380880" y="525780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gel used his lantern to get through he dark wood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kcs user\Local Settings\Temporary Internet Files\Content.IE5\RBXFOIPH\MCj04126260000[1].wmf"/>
          <p:cNvPicPr/>
          <p:nvPr/>
        </p:nvPicPr>
        <p:blipFill>
          <a:blip r:embed="rId1"/>
          <a:stretch/>
        </p:blipFill>
        <p:spPr>
          <a:xfrm>
            <a:off x="609480" y="457200"/>
            <a:ext cx="250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472428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e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57200" y="35053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lace to sleep when camp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380880" y="525780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faela popped her tent to sleep for the nigh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C:\Documents and Settings\kcs user\Local Settings\Temporary Internet Files\Content.IE5\12T97BD1\MCj02156240000[1].wmf"/>
          <p:cNvPicPr/>
          <p:nvPr/>
        </p:nvPicPr>
        <p:blipFill>
          <a:blip r:embed="rId1"/>
          <a:stretch/>
        </p:blipFill>
        <p:spPr>
          <a:xfrm>
            <a:off x="380880" y="380880"/>
            <a:ext cx="30481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472428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guit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457200" y="350532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musical instrument with strings, played strumming the string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80880" y="525780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vis Presley played the guita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kcs user\Local Settings\Temporary Internet Files\Content.IE5\N8X8NVIM\MCj03053330000[1].wmf"/>
          <p:cNvPicPr/>
          <p:nvPr/>
        </p:nvPicPr>
        <p:blipFill>
          <a:blip r:embed="rId1"/>
          <a:stretch/>
        </p:blipFill>
        <p:spPr>
          <a:xfrm>
            <a:off x="990720" y="762120"/>
            <a:ext cx="3243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3"/>
          <p:cNvSpPr/>
          <p:nvPr/>
        </p:nvSpPr>
        <p:spPr>
          <a:xfrm>
            <a:off x="472428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hivere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457200" y="38098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aking from being col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380880" y="525780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uke shivered when the cold rain soaked hi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kcs user\Local Settings\Temporary Internet Files\Content.IE5\H6GMZ4FW\MCPE07665_0000[1].wmf"/>
          <p:cNvPicPr/>
          <p:nvPr/>
        </p:nvPicPr>
        <p:blipFill>
          <a:blip r:embed="rId1"/>
          <a:stretch/>
        </p:blipFill>
        <p:spPr>
          <a:xfrm>
            <a:off x="685800" y="380880"/>
            <a:ext cx="243828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3"/>
          <p:cNvSpPr/>
          <p:nvPr/>
        </p:nvSpPr>
        <p:spPr>
          <a:xfrm>
            <a:off x="4724280" y="380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droole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457200" y="38098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 let saliva drip from mout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380880" y="5257800"/>
            <a:ext cx="838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e Moe drooled when she saw the steak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kcs user\Local Settings\Temporary Internet Files\Content.IE5\2QUQ72KL\MCj04239220000[1].wmf"/>
          <p:cNvPicPr/>
          <p:nvPr/>
        </p:nvPicPr>
        <p:blipFill>
          <a:blip r:embed="rId1"/>
          <a:stretch/>
        </p:blipFill>
        <p:spPr>
          <a:xfrm>
            <a:off x="609480" y="380880"/>
            <a:ext cx="23907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20:31:07Z</dcterms:created>
  <dc:creator>kcs user</dc:creator>
  <dc:description/>
  <dc:language>en-US</dc:language>
  <cp:lastModifiedBy>kcs user</cp:lastModifiedBy>
  <dcterms:modified xsi:type="dcterms:W3CDTF">2008-10-02T21:32:36Z</dcterms:modified>
  <cp:revision>7</cp:revision>
  <dc:subject/>
  <dc:title>Slide 1</dc:title>
</cp:coreProperties>
</file>